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E14-F778-4302-8978-61017131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8BA-73FF-4499-A7EF-BB74AF0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453-0067-466F-953F-BD9BB261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981-D97B-4438-82C4-D1C1D70D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85C-95BE-4ACF-B035-41D83BD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A68-42CD-44F9-B3E8-A2DD852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F2B-BB22-454C-BF34-8C690EE8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608-2A8F-40DC-8201-4FF14B1F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1BA-FCD0-483F-BF80-7457336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EB9-9398-44D4-9377-F762E54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25D-19A9-49A1-A1FB-341229B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042-DCFA-4C55-ADEC-F9B56C19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F9B-89FE-437D-B79C-EF69CA52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following 3 tit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did you like the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lling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n and the Art of Fak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n and the Art of Fak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an’s best character trai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titles is the most realist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least realist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etails or examples can you give to support your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urprised you the most about this b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Killing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ne word would you use to describe this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test box tool to write your response on this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6:47Z</dcterms:created>
  <dc:creator>m</dc:creator>
  <dc:description/>
  <dc:language>en-US</dc:language>
  <cp:lastModifiedBy>m</cp:lastModifiedBy>
  <dcterms:modified xsi:type="dcterms:W3CDTF">2010-04-12T15:37:33Z</dcterms:modified>
  <cp:revision>3</cp:revision>
  <dc:subject/>
  <dc:title>Of the following 3 titles which did you like the best?</dc:title>
</cp:coreProperties>
</file>